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85FD-E0E5-45AC-AA66-A7DDAD45A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2B87-439E-4099-80B7-AA10EDAF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A446-8273-4714-8CD1-3934BD345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6186-DAE8-4801-8CE1-D4457C0D1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086A-AC1E-40F0-9B9C-A6F5CDA29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6C7D-2A67-4BE3-A783-8B59DAD8D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A365-0E3F-41C6-94A4-6DDC20996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C3D8-B98F-4C31-B4E9-29A27011C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1547-9A79-4974-B366-40BE9D786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5199-5056-4AEE-88CE-4A9F70F73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1549-CA83-4604-A18D-69EEEEA42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DF7F-84E2-4AF4-B610-13396D7F4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E6698-2483-4538-B44D-B99F272C49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1880-42B9-478E-805F-A0E8842E2E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8C25-1E8C-4C97-B3F0-3C622FA563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19DB-F024-4FB0-8D3E-DCB9723C4A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DFB88-0340-4FDC-BA03-BECE697FD5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2704-9F34-4252-9CBD-ECEA98803D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73D75-41AF-453E-BF70-4B6DA4A872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1D6D-95E1-4C5A-95BE-41F88122B1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487A-9151-4A9F-B0E8-E206DCBDD3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EA34-85DB-4842-9655-DBE1BA5C63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F7A21-2F3C-4E7C-B1AB-55D72BB85E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6121-3A8E-4A15-984C-3E90B0D9B1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B8CD7-1898-4675-A521-8AFB66696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C8091-FB43-4C58-A18F-AB1DDCED7B2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33D69-CFC7-4A08-98F6-E6E17D0BB38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AE235-3E59-45B3-993D-6F36316128E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B8E7F-EDA2-4664-B0D8-5D864E33F6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4B5BA-F1BC-40A3-A1DB-F8FC6DA61C6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DFC19-73F8-47C2-BED9-EAE0B51A408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34264-022A-43CA-BD62-E5CA6BE2293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4D972-274B-4ADC-BA98-C437B2BD1CC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2E50B-9073-4A65-873E-23ED7DC376D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A5309-21FB-4F6B-B094-6C78C1E1C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F9B7A-6527-40BD-A2DF-E0590B4DE13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CD5AF-B920-4B6F-A5E4-7C537398D41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441B0-5348-4836-8F2E-D1B29C60EB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1D54F-6435-4FBB-9368-ADA84FF25E5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26E55-4370-4EB8-A549-D6E65A9C916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34F7A-2B02-4DD6-BD04-A4338C1A459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1F148-1D48-43BC-BE63-C81A1CAC5FC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27D9F-D186-4038-BFA4-4FC23CE007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29D50-66F5-41F0-89A9-8902BEA626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88729-4827-4F85-9204-37F8775A5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7D466-C06F-449F-AF18-239F036C6E9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B08A2-F58D-4063-965F-2B01D6C8809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2C112-BFE2-4928-96A5-A85C62C2F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A80636C-3F02-405B-ABD4-42DD7D4A3B4C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0B3D9BE-741C-4700-9119-5C858012335E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3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9109D20-FF84-40A4-BFC6-83732D3B000A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new layout art3.png"/>
          <p:cNvPicPr/>
          <p:nvPr/>
        </p:nvPicPr>
        <p:blipFill>
          <a:blip r:embed="rId3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33D98AC-7E86-43B8-88E3-8536E0C0AEAF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5"/>
          </p:nvPr>
        </p:nvSpPr>
        <p:spPr>
          <a:xfrm>
            <a:off x="6539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FB65A66A-A7F2-457B-863D-640795A21737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89000" y="6008400"/>
            <a:ext cx="87660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: Digital Communication Tools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ouse and Pen Pointer Shap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7053120" y="1714680"/>
            <a:ext cx="1249560" cy="38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1"/>
          <p:cNvGrpSpPr/>
          <p:nvPr/>
        </p:nvGrpSpPr>
        <p:grpSpPr>
          <a:xfrm>
            <a:off x="907920" y="1600200"/>
            <a:ext cx="7061400" cy="984240"/>
            <a:chOff x="907920" y="1600200"/>
            <a:chExt cx="7061400" cy="984240"/>
          </a:xfrm>
        </p:grpSpPr>
        <p:sp>
          <p:nvSpPr>
            <p:cNvPr id="283" name="Rectangle 3"/>
            <p:cNvSpPr/>
            <p:nvPr/>
          </p:nvSpPr>
          <p:spPr>
            <a:xfrm>
              <a:off x="907920" y="1600200"/>
              <a:ext cx="538344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row pointer shows where mouse is loc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Picture 7" descr="pointer 1"/>
            <p:cNvPicPr/>
            <p:nvPr/>
          </p:nvPicPr>
          <p:blipFill>
            <a:blip r:embed="rId1"/>
            <a:stretch/>
          </p:blipFill>
          <p:spPr>
            <a:xfrm>
              <a:off x="7369200" y="1751040"/>
              <a:ext cx="600120" cy="75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Group 17"/>
          <p:cNvGrpSpPr/>
          <p:nvPr/>
        </p:nvGrpSpPr>
        <p:grpSpPr>
          <a:xfrm>
            <a:off x="879480" y="2416320"/>
            <a:ext cx="7164360" cy="1196640"/>
            <a:chOff x="879480" y="2416320"/>
            <a:chExt cx="7164360" cy="1196640"/>
          </a:xfrm>
        </p:grpSpPr>
        <p:sp>
          <p:nvSpPr>
            <p:cNvPr id="286" name="Rectangle 8"/>
            <p:cNvSpPr/>
            <p:nvPr/>
          </p:nvSpPr>
          <p:spPr>
            <a:xfrm>
              <a:off x="879480" y="2416320"/>
              <a:ext cx="5425920" cy="11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tical bar appears in areas where user can enter words or numbers or select text (Insertion Point/Curso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Picture 9" descr="pointer 2"/>
            <p:cNvPicPr/>
            <p:nvPr/>
          </p:nvPicPr>
          <p:blipFill>
            <a:blip r:embed="rId2"/>
            <a:stretch/>
          </p:blipFill>
          <p:spPr>
            <a:xfrm>
              <a:off x="7315200" y="2618280"/>
              <a:ext cx="728640" cy="88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Group 19"/>
          <p:cNvGrpSpPr/>
          <p:nvPr/>
        </p:nvGrpSpPr>
        <p:grpSpPr>
          <a:xfrm>
            <a:off x="922320" y="4367160"/>
            <a:ext cx="7101000" cy="952560"/>
            <a:chOff x="922320" y="4367160"/>
            <a:chExt cx="7101000" cy="952560"/>
          </a:xfrm>
        </p:grpSpPr>
        <p:pic>
          <p:nvPicPr>
            <p:cNvPr id="289" name="Picture 14" descr="pointer 4"/>
            <p:cNvPicPr/>
            <p:nvPr/>
          </p:nvPicPr>
          <p:blipFill>
            <a:blip r:embed="rId3"/>
            <a:stretch/>
          </p:blipFill>
          <p:spPr>
            <a:xfrm>
              <a:off x="7389720" y="4367160"/>
              <a:ext cx="6336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15"/>
            <p:cNvSpPr/>
            <p:nvPr/>
          </p:nvSpPr>
          <p:spPr>
            <a:xfrm>
              <a:off x="922320" y="4437000"/>
              <a:ext cx="54259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wo-sided arrow indicates a resizing handle or window bor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C22BF339-8C57-4A49-9771-6DD3891CCDC1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8"/>
          <p:cNvGrpSpPr/>
          <p:nvPr/>
        </p:nvGrpSpPr>
        <p:grpSpPr>
          <a:xfrm>
            <a:off x="922320" y="3618000"/>
            <a:ext cx="7016760" cy="885600"/>
            <a:chOff x="922320" y="3618000"/>
            <a:chExt cx="7016760" cy="885600"/>
          </a:xfrm>
        </p:grpSpPr>
        <p:sp>
          <p:nvSpPr>
            <p:cNvPr id="293" name="Rectangle 10"/>
            <p:cNvSpPr/>
            <p:nvPr/>
          </p:nvSpPr>
          <p:spPr>
            <a:xfrm>
              <a:off x="922320" y="3621240"/>
              <a:ext cx="542592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sy or spinning pointer indicates that the user should wa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4" name="Picture 17" descr=""/>
            <p:cNvPicPr/>
            <p:nvPr/>
          </p:nvPicPr>
          <p:blipFill>
            <a:blip r:embed="rId4"/>
            <a:stretch/>
          </p:blipFill>
          <p:spPr>
            <a:xfrm>
              <a:off x="7358400" y="3618000"/>
              <a:ext cx="58068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ouse and Pen Pointer Shap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907920" y="1600200"/>
            <a:ext cx="53834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or four-sided arrow indicates an object can be 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7053120" y="1714680"/>
            <a:ext cx="1249560" cy="287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pointer 5"/>
          <p:cNvPicPr/>
          <p:nvPr/>
        </p:nvPicPr>
        <p:blipFill>
          <a:blip r:embed="rId1"/>
          <a:stretch/>
        </p:blipFill>
        <p:spPr>
          <a:xfrm>
            <a:off x="7224840" y="1758960"/>
            <a:ext cx="842760" cy="82548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17"/>
          <p:cNvGrpSpPr/>
          <p:nvPr/>
        </p:nvGrpSpPr>
        <p:grpSpPr>
          <a:xfrm>
            <a:off x="907920" y="2489040"/>
            <a:ext cx="7101000" cy="916200"/>
            <a:chOff x="907920" y="2489040"/>
            <a:chExt cx="7101000" cy="916200"/>
          </a:xfrm>
        </p:grpSpPr>
        <p:sp>
          <p:nvSpPr>
            <p:cNvPr id="300" name="Rectangle 7"/>
            <p:cNvSpPr/>
            <p:nvPr/>
          </p:nvSpPr>
          <p:spPr>
            <a:xfrm>
              <a:off x="907920" y="2489040"/>
              <a:ext cx="54262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inting hand appears when user points to a hyperlin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14" descr="pointer 6"/>
            <p:cNvPicPr/>
            <p:nvPr/>
          </p:nvPicPr>
          <p:blipFill>
            <a:blip r:embed="rId2"/>
            <a:stretch/>
          </p:blipFill>
          <p:spPr>
            <a:xfrm>
              <a:off x="7321680" y="2516040"/>
              <a:ext cx="687240" cy="88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Group 18"/>
          <p:cNvGrpSpPr/>
          <p:nvPr/>
        </p:nvGrpSpPr>
        <p:grpSpPr>
          <a:xfrm>
            <a:off x="922320" y="3403440"/>
            <a:ext cx="7097760" cy="916200"/>
            <a:chOff x="922320" y="3403440"/>
            <a:chExt cx="7097760" cy="916200"/>
          </a:xfrm>
        </p:grpSpPr>
        <p:sp>
          <p:nvSpPr>
            <p:cNvPr id="303" name="Rectangle 9"/>
            <p:cNvSpPr/>
            <p:nvPr/>
          </p:nvSpPr>
          <p:spPr>
            <a:xfrm>
              <a:off x="922320" y="3403440"/>
              <a:ext cx="54259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n appears when using handwriting recogn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Picture 15" descr="pointer 8"/>
            <p:cNvPicPr/>
            <p:nvPr/>
          </p:nvPicPr>
          <p:blipFill>
            <a:blip r:embed="rId3"/>
            <a:stretch/>
          </p:blipFill>
          <p:spPr>
            <a:xfrm>
              <a:off x="7343640" y="3611520"/>
              <a:ext cx="676440" cy="70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166B274B-0AE2-45A3-901B-B74D986C6679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indows OS Bas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ows OS open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in separate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re similar to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b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ll commands are dis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 Ba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hows the name of the file &amp; application being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bbon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CFFD102B-6C0E-4C28-8D6C-D47918A322AB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indows OS Bas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om Slider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crease/decrease your zoom/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Ba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s the statistics of your document (page #, spelling/gramm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 Are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re you edit &amp; cre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AB26E2C3-EE55-4AB6-BA86-CCB4CF33EBA6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pplication Window: Powerpoin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C335DF1A-3078-4179-AB23-0350F5A6094C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844560" y="1527120"/>
            <a:ext cx="79326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pplication Window: Pain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62AEA61B-D1F5-4D6D-9069-4D31A188B58D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001880" y="1531800"/>
            <a:ext cx="761184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Opening an Application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90360" y="1600200"/>
            <a:ext cx="398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click the desktop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from All Programs list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"/>
          <p:cNvPicPr/>
          <p:nvPr/>
        </p:nvPicPr>
        <p:blipFill>
          <a:blip r:embed="rId1"/>
          <a:stretch/>
        </p:blipFill>
        <p:spPr>
          <a:xfrm>
            <a:off x="5116680" y="1662120"/>
            <a:ext cx="3547800" cy="4484520"/>
          </a:xfrm>
          <a:prstGeom prst="rect">
            <a:avLst/>
          </a:prstGeom>
          <a:ln w="0">
            <a:noFill/>
          </a:ln>
        </p:spPr>
      </p:pic>
      <p:sp>
        <p:nvSpPr>
          <p:cNvPr id="270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398615CE-44A6-4965-88CB-D78ECC0D5029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oving Through Open Window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e application from the task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ALT+TAB to scroll through ope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how Desktop feature by clicking its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oll by holding down the Windows key+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A98DDE53-8458-4421-B133-70177F86535E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Resizing and Moving Window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990720" y="1724040"/>
            <a:ext cx="7696080" cy="4278240"/>
          </a:xfrm>
          <a:prstGeom prst="rect">
            <a:avLst/>
          </a:prstGeom>
          <a:ln w="0">
            <a:noFill/>
          </a:ln>
        </p:spPr>
      </p:pic>
      <p:sp>
        <p:nvSpPr>
          <p:cNvPr id="276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3E4B1CE5-FCF2-477C-B202-CBFDD0E2CCC5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Resizing and Moving Window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3720" y="148752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ize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s your window to the taskbar. It is not closed; it is just hid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ximiz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kes your window fit the entir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o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akes your window the size it was previously (restore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Window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window in which you are working. Usually brighter in color &amp; in front of othe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3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Slide </a:t>
            </a:r>
            <a:fld id="{E4F92E4E-69F7-4EB2-B818-FE9EB21069F0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9:37:58Z</dcterms:created>
  <dc:creator>Jean Bissell</dc:creator>
  <dc:description>Copyright 2006 South-Western/Thomson</dc:description>
  <dc:language>en-US</dc:language>
  <cp:lastModifiedBy>Lenessa Keehn</cp:lastModifiedBy>
  <dcterms:modified xsi:type="dcterms:W3CDTF">2011-03-04T13:04:36Z</dcterms:modified>
  <cp:revision>68</cp:revision>
  <dc:subject/>
  <dc:title>Slide 1</dc:title>
</cp:coreProperties>
</file>